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AE9C-CF5C-4A87-8095-678A047C2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1D6D-E054-4018-B3CC-8E0F585B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CA47-3569-400D-9341-262B3C8FB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1777-D86C-42F8-9A07-E73573788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DA70-DFE9-4538-B07B-5B57B7951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2E45-9CF1-482C-A4C6-8BEE3864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CFF0-C4A8-4011-8839-A151277F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A6CA-F256-4C3A-8BEE-43E8D6AF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793D-EE6B-48DE-9186-92769623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5FA4-84C8-4574-ABCC-55B270A9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8872-F1D1-4471-B37F-820E6CC1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1F8C-7B65-4D0F-9535-96579C23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152F-BDB7-408C-BEFF-66F50255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7730-2B95-4CA8-A38E-D5E11D73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9911-A145-4C79-B07E-4B3FB62A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694F-322A-47FB-B6A7-BA5BFEE85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E545-6019-4E4B-84E4-0D4E1DC4D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2F3D-53FA-4513-88CC-4D3E80D2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AB2E-A8D7-4D8D-BC29-9EE46360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7AA2-4792-4AA0-9809-76733F26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BF2A-576E-4241-81B6-5E206CF3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6A37-3155-417E-A37D-246635C5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859D-91E6-4D6A-8E31-D793C68B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6493-62F2-4250-8881-FD540C5E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B9ED-207A-4771-A8B5-DA6253D5362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3318-8F52-435A-966F-32BE7D5579C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00ff99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00ff99"/>
                </a:solidFill>
                <a:latin typeface="Tahoma"/>
              </a:rPr>
              <a:t>Ai muncit opt ani!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ff99"/>
                </a:solidFill>
                <a:latin typeface="Tahoma"/>
              </a:rPr>
              <a:t>Se apropie Evaluarea Naţională! Acest an şcolar este cel mai important de până acum 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cc"/>
                </a:solidFill>
                <a:latin typeface="Tahoma"/>
              </a:rPr>
              <a:t>Urmează un capitol foarte plăcut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Vom pune în practică formulele învăţate şi cunoştinţele teoreti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Vom rezolva împreună probleme cu aplicaţii în viaţa de zi cu 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cc"/>
                </a:solidFill>
                <a:latin typeface="Tahoma"/>
              </a:rPr>
              <a:t>Veţi susţine un prim test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Test cu ajutorul căruia vă veţi verifica dacă aveţi cunoştinţele teoretice necesare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 Prisme : definiţii, figuri, elemente , proprietăţ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Piramide : definiţii, figuri, elemente , proprietăţ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Formulele pentru elementele poligoanelor regul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Formulele pentru arii şi volu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cc"/>
                </a:solidFill>
                <a:latin typeface="Tahoma"/>
              </a:rPr>
              <a:t>După fiecare lecţie, veţi susţine un test în ora următoar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Problemele de la test vor fi asemănătoare cu cele din tema de cas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Imediat după ce predaţi testul , profesorul va face corectarea problemelor la tablă şi va expune criteriile de notare,deci fiţi foarte atenţi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Nu uitaţi că nu neapărat nota este cea mai importantă . E important să ştim să rezolvăm problemel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Fiecare notă va fi trecută într-o fişă de notare (tabel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La sfârşitul unui capitol se va face media între notele obţinute până atunci şi nota finală se trece în catalo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O notă mică te obligă să repeţi lecţia respectivă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O notă mică se poate repara cu următoarele note mari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cc"/>
                </a:solidFill>
                <a:latin typeface="Tahoma"/>
              </a:rPr>
              <a:t>La finalul acestui capitol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ff"/>
                </a:solidFill>
                <a:latin typeface="Tahoma"/>
              </a:rPr>
              <a:t>Vei susţine simularea unei probe la matematică , la fel ca cea de la Evaluarea Naţională 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17:29:04Z</dcterms:created>
  <dc:creator>curs</dc:creator>
  <dc:description/>
  <dc:language>en-US</dc:language>
  <cp:lastModifiedBy>curs</cp:lastModifiedBy>
  <dcterms:modified xsi:type="dcterms:W3CDTF">2010-11-26T17:47:52Z</dcterms:modified>
  <cp:revision>7</cp:revision>
  <dc:subject/>
  <dc:title>Diapozitivul 1</dc:title>
</cp:coreProperties>
</file>